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lnSpc>
                <a:spcPct val="100000"/>
              </a:lnSpc>
              <a:buClr>
                <a:srgbClr val="000000"/>
              </a:buClr>
              <a:buSzPct val="15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9778D3-AA9C-4E1E-BBFE-3CA1F6D114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CA60582C-CD36-40E4-88C8-0C6D354985D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124F50A8-2D57-439E-83FB-637AB5DF319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27E1902A-FB92-4DA4-8803-5CF744C141F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7ED2F545-487E-4A16-BC21-B4BDC259DC7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8A1C218-F87C-4DDC-A18E-0F0D76AB22F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DFCAC97-9D6D-4C66-8B82-F72DAEA6FA5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A191C97-1980-46BC-9511-67123E0A3AA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58ED576-8440-47C8-B2D7-63AD05FC5FB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97D0DA34-D745-45BC-AF8F-68D89C31516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CF38E9B6-5809-46DF-9EC1-46C2E12D581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52394B4-30BA-40FA-A536-F1731A7E72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869C4318-CDC3-4A52-8B9D-6522CFB72A8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C65998A2-CA26-4781-95E4-0678B31ED26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BEF2A0C-608B-4796-9490-9B628A0F329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977A5E27-C2F2-4179-9E2B-DFF3D54FC61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ACAAD06E-E786-4A5B-B971-36D150CFC19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94EE1B18-6914-4406-B212-D8BD7EA9253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26915380-1E0D-4310-B97A-F6CD4731E44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7C7BF44-3E8F-4641-865F-423BF894069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95722D5-E317-4A5A-AF52-ECCC70634D5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2A75CB4-D00F-4A3A-B079-359B0690F1F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248EEDF9-953C-4ADA-864D-A81523E15C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F531A7E2-3668-4365-8E16-1C501DE4149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528320BD-0DDC-4A80-BF1A-35029486697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A44A283-A1BB-4F17-B1E3-29DEFA9C011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BAE78D5B-AACF-44B0-8576-4FB473C9F69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187884BB-AA27-4667-9305-64CE53BBB67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CD4E5A08-C162-4367-8410-077D391E893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9C26AB52-32CC-418E-9450-42E4D1DF19A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614A2E44-1D15-4263-8CB0-3956ED685B9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9F319ED-B05B-48A7-8F0D-509B70E8700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9F4E267-7BF3-4814-8F71-A03EC1191D8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1D15411-F9DD-41EA-97AD-4282C1324B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F7EA0096-EEBE-41BD-939C-59F24283AE3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4540B2C0-0A4A-4ACF-B97C-C1C2799B20A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8E8760E0-58FF-4400-B9F5-60B45DAD1C0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8DB8B8D-C779-4B13-8BBF-70FB26C49D2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316832C1-C8AD-461F-8D52-4D71450745E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3723E310-BD6B-494A-A7FB-903A94D6A0B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E133763A-E6F4-4902-8025-A6B068E2A45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27A3EBA1-FC78-40C4-B618-F1D562B3754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864DC597-D068-4AA6-B0EE-2CC0590535C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C3493929-A766-46F3-A5BE-529B4960A9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3FD05C5-7DA2-48D6-9006-4872DD6CD3B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52753AD-EF09-4CD1-9378-45C6468CEB7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69243C0-5580-44E0-BD7E-B72E8D5B807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E55EC409-0E03-4960-B7E5-2797D42A985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509D8119-6D19-4DB5-8465-57724DACAD7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A1C96FA-2B82-4618-8F57-C4807BD5960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C2ABB603-9D83-4701-9EEA-CD83F2EBE5F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671E4DC6-D45E-4DB9-A234-7C357521A8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C5A45262-2847-48C9-9006-B4E7DE4CB4D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B8F7EC79-F0C8-43FD-8979-BD98926B0D9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D8974159-4538-4410-AF1C-9BBA8965FE1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24365A2-A33C-40E0-8F8D-8EEFD9A1BB9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9691BFB-351C-4B04-A6F3-B44EFB374FE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8781A76-D0C8-468D-8272-CF3DF09139F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67ECEBE6-EBD7-410E-86D8-595C942C7E1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ADAD2AF2-A372-4B33-8D00-F81FB0B73B3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F9A0A178-F50F-4876-BD0F-D686F213B98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005D251-19DC-4799-8289-5E49D2674BED}"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1118BF4-5AAE-4395-8A8F-4A9C572CFCB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2BA62926-C72C-4C4F-8048-3FAC305C30A9}"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B8ECB579-B473-4451-B62B-9154F0D77E7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3AA6BE56-E0B7-4755-BC8E-BF1FAA5BACE2}"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725CE41C-AFFC-4CB8-BC20-76476E147461}"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76323DF9-B717-40E7-BF0F-997730C41975}"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18E2DB2-74F0-4632-9B3C-B68631F5F222}"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9B1371CD-3C53-441B-A7DA-AE8EE172F3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AB76474C-65DB-4F5A-9979-397078D2C8FA}"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BFE82CD9-D26C-4382-8CEF-F08B10678626}"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68BAE10A-1BAE-461C-B7E7-DBFEE4E6897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808A0C5-E191-42A8-ACE5-71FC1B625A9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3D9122E3-0CB7-4AEA-A17A-8D7F3A0DD83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33310B38-1E66-4FC3-8923-1712E3C93B8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C022B213-41FE-4325-AEE6-801050694F1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E26547EC-F6FD-46E4-BA2D-0EE5A3B1C40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999A969D-0EA5-4025-BD51-12C16712B42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850882E-F98B-41D3-A650-1D11B8A413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DDC255FA-F42B-40BC-A2DF-6F392BD670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F1B1B10-CAC4-477B-AA52-A0DDF5FB2F0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92C1D680-8C3C-470B-801D-076CA1C995B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098BD902-CCE6-4140-9A6A-CF433434D317}"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A45A1752-93CA-4107-BEE0-5D69A1D8B33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65DB0028-D757-4E06-9B18-9EA9BA55F8CC}"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A03A6B9-6FCE-417E-9C1D-743ED6743BB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C44FF45-A122-4847-8A60-E4A15FB37E2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946815EA-405B-472B-93E1-DB85C0D5BB65}"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A933CDE4-6F3D-4440-8C05-DFEC148D2129}"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49C99914-F0EA-44F8-8C7A-7D7829AA03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A67CB8B6-8879-440F-98BA-CF7CC68D688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5603ED6B-2765-4CD3-BD19-EBFEB6C02CC5}"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D657A9E8-7FBC-4B49-8F46-8FC5B536DADB}"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CD51906-78E6-4783-A6D0-4825B75627E4}"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661D9A58-CD97-450A-BF14-76FF72696EA0}"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1A0146CD-A62B-409E-9C40-587D0B70C7A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1D96CD5E-D373-4BE8-967F-CB4640CE1E7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C927EB4-5FEF-41AD-86BC-1EAD8B40D72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FEAC7AEA-FCF8-4498-93B5-6C13A842917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0775D417-73A6-46B1-BAF0-994C7F0BCF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F38B2D05-6DB7-4C8E-8A28-2AD7DBEEC4B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27D8F2D2-859D-4632-9878-1F9A18EC2D85}"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46C03BF5-2E11-4C02-A256-25063B6D0F8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4B4CBD68-9B79-444A-ABD8-7B172AB46C2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E02D1D9-D0B2-4511-94E9-C60F8DC11B3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F74062C-8656-4F5C-82BE-15C06E765D5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A1540D58-66C1-4793-AC44-E94FEC9805F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721393B5-005C-4750-B97F-08237D16444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F9FA554D-EFD8-4AB3-B2B1-074462453AD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7B265523-ED20-4EC4-A3E4-EC1AA49195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FC5ED16-F7E9-455E-9A02-2E2E3F5E289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192CB0A6-14D2-4FDB-B157-5479D9CFA1E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E2DC398A-5A3C-4644-B78B-D62861B4CEF5}"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5F68800E-2A43-4AB2-B13C-E11DE44FCA8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7CD40245-F4DB-43BE-BB3D-33EEED73D72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5E6E901-7FE4-4BF7-9471-8468DC1DB43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C348D40-8AE3-43A7-9F52-1506908BE30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7321B36-C03F-43A8-AEBA-96DE92AC011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22FDDDB5-E40F-4A1E-BEA9-CC2404D5E3B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F15D852E-A1A9-4469-964E-2BE32894C3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D3A7FF54-9CEC-4394-A285-551197720EB1}"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75BC1AC-0C54-4663-B85A-0F550E5CF8E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3228612-BC24-4EB6-8A15-925A3C74B64A}"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D6B699BC-CFDB-4472-AAD2-B0C6BFB0D6E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CFF6B352-4CAA-4D21-A89D-4D50B16A946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BCD7F26B-5707-4A46-9B0A-04F88B21732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DD6698B4-2B34-489E-84E4-F2DDA444656E}"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D283B7D-E13A-4FA8-A227-30B2EDF4B639}"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4E432B8-1101-4098-A40A-9FE276458EB9}"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8108291-0A48-4FF7-8FB5-F7FCFDDF3F3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A1CADF-A38C-43C0-961A-76429DEB313A}"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E1D1A7C7-DAC5-43E1-AD45-21B60A76DEAC}"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D74E51F4-D1C9-4DB5-9376-262193A0226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F7CFD2C2-BA5A-469D-A230-596735110CE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BF9EB624-F38D-4055-AACA-B2DAAF049487}"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4EC2B74D-9081-49B9-AB32-DDC935BAC01C}"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ED96A54B-D4E0-4387-B513-60FFC689BDC3}"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D7EF519F-A567-4D23-8915-493AC8398455}"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E688868B-6803-40A9-991B-59C21D235107}"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AFA9BEE6-9C37-449E-A34C-980FBAD4E91B}"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F0444DF-D6CC-4A93-8821-3028DEEF7AB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E9C4E441-08F0-4FE8-8172-8AB8954C2F6F}"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2AE1205-986A-4B88-8D38-A36D4079EE1E}"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CB2D749-6DC4-444B-BD30-97D51C0CB884}"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19C396FA-1842-4958-81F6-701878D605C1}"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229C9F1A-6DB9-4E9D-85D9-961479F45A3F}"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AE282C9E-4D0E-4F86-B6F8-8563EB927AF2}"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183DCDB-6634-4AD1-BE08-4B7344AE9334}"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24CF6BF5-9183-4E45-9DDE-BEBE12AAE37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E3D71490-F3CE-4D62-94D8-A73EB6217B81}"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6DAC4E46-28BB-451E-806D-FD5BDE3F448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BB878D8A-30FC-4FC8-8C7D-23F46C1F23D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7AEB923C-E514-4664-BB26-68C5A435CA4A}"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064190DA-4555-4922-85E5-B5C8649DDEDE}"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E758793A-2D98-4DB3-9386-6C284B8A8B8B}"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A18588E0-EC72-4B82-A9E9-9D62F64402C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B52636DE-9336-49E2-8EF8-61934723BC8A}"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862A2DD3-2CCA-4374-97C0-BF54DBE5CC5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0855CC8C-4843-4C86-B090-EA3EB37AF8B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E27FF7F5-6F4A-4B7A-824F-D0B156B5B8DD}"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CA907176-8089-4D38-87EB-2A34E461ED75}"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7C6206FD-1A32-463B-BDA3-ED3228F0FF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98F0275F-F6B6-499A-887F-4100F049BD5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A22B58B5-79E7-4EE6-8C30-6687B7D155B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DAC68488-3A76-470F-AF49-EC4FF55ACF6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E1EED8B-FE16-418A-B5D5-2B77182BA5A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ACD5075-9076-4DEE-9049-B73A9214183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4541E951-E29B-434F-B6DF-CD0BED76D95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06880D00-DDAA-4E91-884D-E8355A2F2D6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F5F4C4A8-775D-4988-9A86-D5D333942A3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E7D3C6A-61C0-4B1D-BBEF-BF3D90B8B88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9BFFFBB0-B621-439E-934C-7B62EE76B9C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7E77EF6D-71B4-4AF8-AC60-394970EED0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CD64C1D7-6073-424D-8A26-51DFDE91B2E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30975869-D211-4FBD-B136-43FBDB67E81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28E1624B-3654-47A9-AB4D-843EA8F71DB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44BD5A3F-83D8-46E1-986C-B71E4EA5AF3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78F5117-55BB-4349-ACAE-1A35558EF88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F35F842-F319-4335-844B-BA141B6E235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763C0F0-37AF-419B-95EC-DC832F4D993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0FFB6319-8215-48EC-9DC9-3D05E0CAFBC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7A00B4E6-9B9A-4932-9AE0-A7D71B4941D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FE270DDC-899E-47A2-AAE2-10AFC9BA3A9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715C9F-9BAF-4CB1-BD0D-91C1F5A61E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0D65E987-BD03-4732-B8A7-8817E89A409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20610EC-AFCE-4E5F-99EC-5692A89BC74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187F13F4-7D67-4C49-8D09-140F3DDE48A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2C17FC7A-2BA8-469A-9878-199DD3CAFC7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A652929E-FA3D-4731-A216-B81FF4DC4B3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219024D9-4234-4485-B79D-FE5349F92D1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784D6BB3-40F2-4F69-A480-50B9E828F3F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4FCA68F-C49F-4A50-A257-8814A005966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C015EB5-05AD-4172-A334-3F0D6097188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55F04EB-8BD5-4820-A99A-5C9B0B6CD8A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74482968-2584-42D4-B8C5-7ED4EF0D6E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7759CD1B-30FE-4AF5-8370-6617A6BE0B6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DB701F44-719C-4525-9B7D-712019E3F3F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84D9DB4-D597-47A7-8631-1EB2A67470C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E194279D-6442-4DA3-A0A1-AF37E416601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461927FF-6895-45AA-8187-100D8D2D88E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935CA2D-B285-45B3-9A23-E137F887703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77E031E9-9E95-436E-9387-F526E2213F8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2BF93418-256B-4B22-B015-47451E7D053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2440D62-B2C1-4C31-896A-A5D4F884E18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60E0224-D792-41C7-9CB2-2BBA1A9A4E1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FE33346-EED7-452E-9866-8C0797AF23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E74E820-2B4C-42DC-AD45-22639084561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22859DA7-2F53-4215-B559-A3C373BC82C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06F900F2-AF3A-432C-A9A7-559E5FE8269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314CBE3B-EFA5-46A8-8526-3DE073A49D1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574C894-A6F0-4DED-B366-971DA5B27AF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495268E3-692C-4575-9BFD-D43EF31E65D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C4BA048C-C0D6-45E0-9A7F-37837FA67B2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BA7B4F6D-BFCF-466B-83E3-5111152CD10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6932AE08-274A-4B38-A461-B1508D9C1BB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AA549110-4BD7-44FF-81CA-AC709DCD5E4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75A83D00-6965-479C-99B3-2FFAD761C0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9F48C70-5EA5-4B3F-9B57-DD882046451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FBF45896-DC4D-420B-8C1B-77B3F930111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DB3BCF4-0CB7-4D8E-9E34-8EFCD7A45F2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C36B6100-AA57-4113-BA8F-85734A4F445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53C66DC7-E249-4227-9CA9-50D345E947B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4B32E02A-B119-4BE7-9146-58B39619C35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FCC18C6-4753-43F8-9173-EDEF1570D2F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D3B3ACC9-8D15-4862-919D-A4F1CE8995B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D040932-B9FD-48EB-AF53-2D6F4D8099E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AFDCBEC9-B3A5-4DEF-AB51-0269B0EBA08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D5073151-997D-4DA3-B81C-5308B222D2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57ED363-AE3D-4159-B18C-A056BB36070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3AF5D6B4-7FEC-4123-B184-6711423C51F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BD909EB-ED6E-42A2-9661-9D8B0BBF3EA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F5E8126-400E-4F82-AC7F-F12B83116BC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01015A6-D7E5-49A1-8F11-BA71DC10CD4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D6D67DA-62B4-490C-BDD3-AAB7975B088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D75AD08B-CDE9-4864-BFD7-9A387B12734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FC467CA4-FD5A-45A8-9B95-8623D754CF4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530AE97-1EB6-4815-82F8-31354123D7E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DABF9D63-057D-4A2C-8BC7-FABF4801BA9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F0785BF-8A7D-4536-9B55-423F440542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1D2E-0A6F-4BEC-BC44-661AFB41AF80}"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09E58-D08D-4F13-8221-F0EFF41BEED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B1A2C-5EAA-4CA9-B409-DA5F541307B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3497-44E2-4805-B9CE-2C41C3B94F1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86D5-09AB-46FF-9726-6A737EA47C4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F6A0E-21D6-4B0C-95F5-3509D2830646}"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BC0FA-DFA3-4B00-8968-356A0A85827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42FCF-AD15-4201-806B-C87EE102DD0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DA71-996E-4293-BC8A-544D2494463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FC03A-C16E-4A7D-8CF1-A2F9C0AD760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7A8F-ABA7-4C8E-A1A3-6E17E158CF3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DDFA-EB43-40ED-9EBD-3457F77B050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914D-ED85-4A00-8E59-53EA3B100C7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3A98C-F7D6-4C37-B4C7-BEA45C877FB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48E01-16FC-48B5-A00C-96850508EBC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4019-9F9B-4372-8B60-E5337FEF3DEC}"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6D4A-6E80-4526-9CDF-3D7BF3B904A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F6CB6-CDC7-41BB-8BB2-FCA6893D994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DBE2E-D065-42F2-92EA-6B89F245E36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3965-8D20-47A7-A629-8BE9990D0F6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BA68E-B03D-4E55-B323-05DE05C435F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7A1C1-F1BB-46CD-903D-CF0FEBA66F5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E8F7F-5A54-4E78-B4B5-872D15199DA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EC0B7-C330-4A49-BC6F-4CEF7E058D7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9B40E-4A88-49C9-B101-A175627C72A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3CF2-628F-4075-8289-B8BCE63E725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42415-EED6-4902-89D3-81D90E601F4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2AA80-57DF-4627-B0C2-2365437D41A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FBF3-AB5C-4293-8AD6-A0994E77336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FDE9-8FEC-4786-A105-B1161EC4BC4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8A12A-C190-442B-8C50-F0562493C2B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811E-E37A-4F41-85B7-5DFE411EAD1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207AF-1375-4718-9275-A40241B975A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677CD-0518-4A4F-8A76-7F7525D2D68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282A-D040-42D7-A194-BD60C4DDA83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83B6A-4A2D-4542-BC43-BDD33A9CE63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BBC22-C6D4-4B32-9196-58AE140EC0E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7780-D256-42B6-AE4B-5869B41E505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D1937-FDFD-40BE-85BE-7F626611B1B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8177-7926-45CE-9BF8-D4B66E9E200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FFE61-C93C-4FC9-8F6C-A92F6A92F32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33Z</dcterms:modified>
  <cp:revision>36</cp:revision>
  <dc:subject/>
  <dc:title>Text-Dependent Questions</dc:title>
</cp:coreProperties>
</file>